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31F2-A30E-4018-B6A0-2AF7A4609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EFC-80E9-4792-BCF9-54A8E1E5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CB2-C990-496F-A7E4-0582743A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B1B-06FA-407B-B676-77110521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452-5E0B-431A-9EA6-6A8675B6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15FD4-5F3E-4584-A534-241AFA6C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27C8F-E334-4710-B625-FDD04CB6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F920A-DC6D-4C22-96FA-E1FA6A4C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48B47-D017-467A-B1C5-7F60CA2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BDE5A-1681-4DF1-A5F6-465938B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59F8D-2C49-4336-92CC-8AA4E01F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0E371-3EBC-4851-829B-4EB85811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E88-9EE9-489F-8C9B-035226ED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9373D-BEC8-4481-A955-7601F32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A14CA-B505-469D-873D-E60E42E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7C308-A317-4BA6-8EBC-4E5F1BD3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EAF0C-9439-4EF8-A4D7-AF9EDFB0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8CA49-A9FF-46F8-A343-3C1E0C7B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964-127A-4EFC-B2B0-06033BEE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D73-4B28-40C5-9DDA-205D44D7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38A-14B9-4954-A78C-CDAA10E7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4DB-4F87-45EB-B2B6-CADB63B5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5DB-BA62-44D6-AE9F-08B0722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08A-9054-405C-AEA8-12D4C7B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9A3-0E6F-4304-AB62-F8FD1CF6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429F-7181-4F57-83E9-A51688C3F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133-77B2-44D7-82FF-27915B62CA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54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57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3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72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77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78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87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98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3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15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4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31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dc:language>en-US</dc:language>
  <cp:lastModifiedBy>LEGION</cp:lastModifiedBy>
  <cp:lastPrinted>2003-10-27T22:25:26Z</cp:lastPrinted>
  <dcterms:modified xsi:type="dcterms:W3CDTF">2018-03-22T10:54:21Z</dcterms:modified>
  <cp:revision>111</cp:revision>
  <dc:subject/>
  <dc:title>PowerPoint Presentation  -  The Sun as a Power House</dc:title>
</cp:coreProperties>
</file>